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3.png" ContentType="image/png"/>
  <Override PartName="/ppt/media/image11.gif" ContentType="image/gif"/>
  <Override PartName="/ppt/media/image9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5.gif" ContentType="image/gif"/>
  <Override PartName="/ppt/media/image24.png" ContentType="image/png"/>
  <Override PartName="/ppt/media/image22.wmf" ContentType="image/x-wmf"/>
  <Override PartName="/ppt/media/image20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1BE-7B27-4A8B-8A10-FE152403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10C-5986-4638-8C87-AC0BF24A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21B-E072-4EE8-A66F-08AF1BA7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783-0850-4AD2-94CD-69A15F95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7E9-C9F5-4868-AA8E-878B9B0D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0F0-6052-4F92-B019-84149609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C0F-DEB2-44F0-AA53-8D4C0A1D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CCF-CF94-4FBF-8213-22CAAA6C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B9E-BADE-41A5-8C27-0D7D1C5C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BDF-E9AF-4CEF-A67F-A4D19180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A53-E058-4931-8584-A8DA4207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3AE-FA4C-47B9-A621-8EB7ED76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5CB5-4499-4915-A147-DF38D1642F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692280"/>
            <a:ext cx="82818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«  в р е д н ы 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полезны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п р и в ы ч ки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506520" y="4365720"/>
            <a:ext cx="806760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 начальных класс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ько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мма Асхатов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1042920" y="765000"/>
            <a:ext cx="71294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ивный курильщи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1187280" y="2637000"/>
            <a:ext cx="741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пассивный курильщ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ood_6341_Zlaga_ru"/>
          <p:cNvPicPr/>
          <p:nvPr/>
        </p:nvPicPr>
        <p:blipFill>
          <a:blip r:embed="rId1"/>
          <a:srcRect l="0" t="0" r="0" b="45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00"/>
                </a:solidFill>
                <a:latin typeface="Comic Sans MS"/>
              </a:rPr>
              <a:t>Витамин – от латинского «</a:t>
            </a:r>
            <a:r>
              <a:rPr b="0" i="1" lang="en-US" sz="3600" spc="-1" strike="noStrike">
                <a:solidFill>
                  <a:srgbClr val="ff6600"/>
                </a:solidFill>
                <a:latin typeface="Comic Sans MS"/>
              </a:rPr>
              <a:t>vita</a:t>
            </a:r>
            <a:r>
              <a:rPr b="0" i="1" lang="ru-RU" sz="3600" spc="-1" strike="noStrike">
                <a:solidFill>
                  <a:srgbClr val="ff6600"/>
                </a:solidFill>
                <a:latin typeface="Comic Sans MS"/>
              </a:rPr>
              <a:t>» - жиз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ahoma"/>
              </a:rPr>
              <a:t>Узнай проду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9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ОМЬК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ФИК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НАБ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ОЙРУГ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ЛЯОБ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РУША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6" descr="IMAGE013"/>
          <p:cNvPicPr/>
          <p:nvPr/>
        </p:nvPicPr>
        <p:blipFill>
          <a:blip r:embed="rId2"/>
          <a:stretch/>
        </p:blipFill>
        <p:spPr>
          <a:xfrm>
            <a:off x="6300720" y="3860640"/>
            <a:ext cx="22320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58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редные и опасные для здоровья продук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3" descr="CHOCCAKE"/>
          <p:cNvPicPr/>
          <p:nvPr/>
        </p:nvPicPr>
        <p:blipFill>
          <a:blip r:embed="rId1"/>
          <a:stretch/>
        </p:blipFill>
        <p:spPr>
          <a:xfrm>
            <a:off x="457200" y="4572000"/>
            <a:ext cx="2627280" cy="1682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OTDOG"/>
          <p:cNvPicPr/>
          <p:nvPr/>
        </p:nvPicPr>
        <p:blipFill>
          <a:blip r:embed="rId2"/>
          <a:stretch/>
        </p:blipFill>
        <p:spPr>
          <a:xfrm>
            <a:off x="5105520" y="4648320"/>
            <a:ext cx="165096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HAMBURGD"/>
          <p:cNvPicPr/>
          <p:nvPr/>
        </p:nvPicPr>
        <p:blipFill>
          <a:blip r:embed="rId3"/>
          <a:stretch/>
        </p:blipFill>
        <p:spPr>
          <a:xfrm>
            <a:off x="6629400" y="1143000"/>
            <a:ext cx="2286000" cy="1681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SODAPOPT"/>
          <p:cNvPicPr/>
          <p:nvPr/>
        </p:nvPicPr>
        <p:blipFill>
          <a:blip r:embed="rId4"/>
          <a:stretch/>
        </p:blipFill>
        <p:spPr>
          <a:xfrm>
            <a:off x="6858000" y="2971800"/>
            <a:ext cx="68112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762120" y="990720"/>
            <a:ext cx="56386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азированная сладкая вода –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Fanta”, “Pepsi”, “Coca-cola”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и другие напитки с консервантами, на ароматизаторах и с крас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Чип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дукты быстрого приготовления (супы, лапша, пюре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амбургеры, хот-дог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ладости (в большом количест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8" descr="с"/>
          <p:cNvPicPr/>
          <p:nvPr/>
        </p:nvPicPr>
        <p:blipFill>
          <a:blip r:embed="rId5"/>
          <a:stretch/>
        </p:blipFill>
        <p:spPr>
          <a:xfrm>
            <a:off x="7391520" y="4724280"/>
            <a:ext cx="1276200" cy="1733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Безимавени-1"/>
          <p:cNvPicPr/>
          <p:nvPr/>
        </p:nvPicPr>
        <p:blipFill>
          <a:blip r:embed="rId6"/>
          <a:stretch/>
        </p:blipFill>
        <p:spPr>
          <a:xfrm>
            <a:off x="3505320" y="4876920"/>
            <a:ext cx="120636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5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5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5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5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5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5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15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15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5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15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15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5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15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15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5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Рано утром просыпай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ебе, людям улыбай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Ты зарядкой занимай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Обливайся, вытирай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сегда правильно питай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 школу смело отправляй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j0236446"/>
          <p:cNvPicPr/>
          <p:nvPr/>
        </p:nvPicPr>
        <p:blipFill>
          <a:blip r:embed="rId1"/>
          <a:stretch/>
        </p:blipFill>
        <p:spPr>
          <a:xfrm>
            <a:off x="6300720" y="378468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j04277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j0343405"/>
          <p:cNvPicPr/>
          <p:nvPr/>
        </p:nvPicPr>
        <p:blipFill>
          <a:blip r:embed="rId2"/>
          <a:stretch/>
        </p:blipFill>
        <p:spPr>
          <a:xfrm>
            <a:off x="2195640" y="1413000"/>
            <a:ext cx="5400720" cy="493848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 rot="21184200">
            <a:off x="0" y="404280"/>
            <a:ext cx="8893080" cy="16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1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Если хочешь быть здоров".</a:t>
            </a:r>
            <a:endParaRPr b="0" lang="en-US" sz="6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Болен – лечись, а здоров – береги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Вода ломает мост, а алкоголь голо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Табак для здоровья главный вра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Человеку вредит алкоголь, как шерсти м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Кто день пропустил зарядку, на день постар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Физкультура и спорт здоровье нес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J0172193"/>
          <p:cNvPicPr/>
          <p:nvPr/>
        </p:nvPicPr>
        <p:blipFill>
          <a:blip r:embed="rId2"/>
          <a:stretch/>
        </p:blipFill>
        <p:spPr>
          <a:xfrm>
            <a:off x="5940360" y="260280"/>
            <a:ext cx="2244960" cy="30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J0252629"/>
          <p:cNvPicPr/>
          <p:nvPr/>
        </p:nvPicPr>
        <p:blipFill>
          <a:blip r:embed="rId3"/>
          <a:stretch/>
        </p:blipFill>
        <p:spPr>
          <a:xfrm>
            <a:off x="539640" y="549360"/>
            <a:ext cx="1787760" cy="151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PE00998_"/>
          <p:cNvPicPr/>
          <p:nvPr/>
        </p:nvPicPr>
        <p:blipFill>
          <a:blip r:embed="rId4"/>
          <a:stretch/>
        </p:blipFill>
        <p:spPr>
          <a:xfrm>
            <a:off x="826920" y="2924280"/>
            <a:ext cx="3448080" cy="346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SL00286_"/>
          <p:cNvPicPr/>
          <p:nvPr/>
        </p:nvPicPr>
        <p:blipFill>
          <a:blip r:embed="rId5"/>
          <a:stretch/>
        </p:blipFill>
        <p:spPr>
          <a:xfrm>
            <a:off x="3419640" y="1197000"/>
            <a:ext cx="1944360" cy="190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L01395_"/>
          <p:cNvPicPr/>
          <p:nvPr/>
        </p:nvPicPr>
        <p:blipFill>
          <a:blip r:embed="rId6"/>
          <a:stretch/>
        </p:blipFill>
        <p:spPr>
          <a:xfrm>
            <a:off x="4859280" y="3762360"/>
            <a:ext cx="2133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611280" y="907920"/>
            <a:ext cx="7972200" cy="293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 тот спортсмен,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в детстве прыгает,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 тот , кто в старости бегает.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Picture 5" descr="J0232064"/>
          <p:cNvPicPr/>
          <p:nvPr/>
        </p:nvPicPr>
        <p:blipFill>
          <a:blip r:embed="rId2"/>
          <a:stretch/>
        </p:blipFill>
        <p:spPr>
          <a:xfrm>
            <a:off x="395280" y="3068640"/>
            <a:ext cx="374508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ыберите слова для характеристики здорового челове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4560" y="2707920"/>
            <a:ext cx="56530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красивы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        ловки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татны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     креп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утулы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    бледны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ильный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    румя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BD13694_"/>
          <p:cNvPicPr/>
          <p:nvPr/>
        </p:nvPicPr>
        <p:blipFill>
          <a:blip r:embed="rId1"/>
          <a:stretch/>
        </p:blipFill>
        <p:spPr>
          <a:xfrm>
            <a:off x="0" y="404640"/>
            <a:ext cx="1176480" cy="23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J0232734"/>
          <p:cNvPicPr/>
          <p:nvPr/>
        </p:nvPicPr>
        <p:blipFill>
          <a:blip r:embed="rId2"/>
          <a:stretch/>
        </p:blipFill>
        <p:spPr>
          <a:xfrm rot="14379600">
            <a:off x="5171400" y="2108160"/>
            <a:ext cx="3446280" cy="33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54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НЕ ЗАВОДИ ВРЕДНЫХ ПРИВЫЧЕК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Не начинай курит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Не пробуй спиртног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Никогда не прикасайся к наркотика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легкие"/>
          <p:cNvPicPr/>
          <p:nvPr/>
        </p:nvPicPr>
        <p:blipFill>
          <a:blip r:embed="rId2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907920"/>
            <a:ext cx="71391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5481"/>
                </a:solidFill>
                <a:latin typeface="Tahoma"/>
              </a:rPr>
              <a:t>Легкие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72000" y="1981080"/>
            <a:ext cx="231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1 Трахе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2 Бронх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3 Легк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КУРИ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3"/>
          <p:cNvSpPr txBox="1"/>
          <p:nvPr/>
        </p:nvSpPr>
        <p:spPr>
          <a:xfrm>
            <a:off x="430200" y="692280"/>
            <a:ext cx="87138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e5ffff"/>
                </a:solidFill>
                <a:latin typeface="Arial"/>
              </a:rPr>
              <a:t>курить - здоровью вредить.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e5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42:07Z</dcterms:created>
  <dc:creator>User</dc:creator>
  <dc:description/>
  <dc:language>en-US</dc:language>
  <cp:lastModifiedBy>Белькова РА</cp:lastModifiedBy>
  <dcterms:modified xsi:type="dcterms:W3CDTF">2016-05-14T07:39:58Z</dcterms:modified>
  <cp:revision>18</cp:revision>
  <dc:subject/>
  <dc:title>Слайд 1</dc:title>
</cp:coreProperties>
</file>